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2.jpeg" ContentType="image/jpeg"/>
  <Override PartName="/ppt/media/push.wav" ContentType="audio/x-wav"/>
  <Override PartName="/ppt/media/image3.jpeg" ContentType="image/jpeg"/>
  <Override PartName="/ppt/media/voltage.wav" ContentType="audio/x-wav"/>
  <Override PartName="/ppt/media/image7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type.wav" ContentType="audio/x-wav"/>
  <Override PartName="/ppt/media/arrow.wav" ContentType="audio/x-wav"/>
  <Override PartName="/ppt/media/bomb.wav" ContentType="audio/x-wav"/>
  <Override PartName="/ppt/media/click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camera.wav" ContentType="audio/x-wav"/>
  <Override PartName="/ppt/media/%D0%B8%D0%B3%D0%B3%D0%B8.wav" ContentType="audio/x-wav"/>
  <Override PartName="/ppt/media/%D0%BD%D0%BE%D1%80%D0%B5.wav" ContentType="audio/x-wav"/>
  <Override PartName="/ppt/media/cashreg.wav" ContentType="audio/x-wav"/>
  <Override PartName="/ppt/media/chimes.wav" ContentType="audio/x-wav"/>
  <Override PartName="/ppt/media/wind.wav" ContentType="audio/x-wav"/>
  <Override PartName="/ppt/media/%D0%9C%D0%95%D0%A2%D0%90%D0%9B%D0%9B%D0%98%D0%9A%D0%90.wav" ContentType="audio/x-wav"/>
  <Override PartName="/ppt/media/coin.wav" ContentType="audio/x-wav"/>
  <Override PartName="/ppt/media/image9.jpeg" ContentType="image/jpeg"/>
  <Override PartName="/ppt/media/laser.wav" ContentType="audio/x-wav"/>
  <Override PartName="/ppt/media/image11.wmf" ContentType="image/x-wmf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B59-0241-4887-8792-CBE7A3B6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5F5-8B6A-41DE-8488-849FF97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180-CF80-4592-A770-A0E53A0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42D-CD5B-4AD6-A9DF-D91D923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CE1E-4736-4719-80DA-1699D5BC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16A-46DF-47EB-B90F-E180386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538-FE7F-4203-AA05-29F6D6F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597D-43A0-40DC-80CB-70D7C69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2A0-8CA9-44DB-874A-7348174F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3010-2173-447E-BCF1-17BCC0C2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1CB-7458-4214-B9E2-B8C9E73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BF8-3187-413F-B6DB-7A67F0C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87B3-041F-4481-9FF4-AED7679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707-2BF0-474D-911A-4D122888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FD7A-B36F-4D00-B53D-3B3CA67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688D-A633-4C24-90C0-CD48DE51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D2A6-033B-4AE8-907B-7EDA1DD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1BE-1B46-4C0C-92A7-49130EC7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BEF-8BD0-4D61-B43E-E4408B1E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E8B-DB94-4FDE-BBE4-190BB6FB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957-A730-4CDC-A99C-96AE9126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BBA-2E39-47C4-BB4A-0CBC506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092-7AB3-4A84-9BB7-9819D4A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D4-A74E-421B-AE6D-D41AB6E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8100-A87F-451C-AA64-09C97272C5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D132-D107-4753-B9FD-B2F16297648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lick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suction.wav"/><Relationship Id="rId4" Type="http://schemas.openxmlformats.org/officeDocument/2006/relationships/audio" Target="../media/cashreg.wav"/><Relationship Id="rId5" Type="http://schemas.openxmlformats.org/officeDocument/2006/relationships/audio" Target="../media/arrow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1052;&#1045;&#1058;&#1040;&#1051;&#1051;&#1048;&#1050;&#1040;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&#1085;&#1086;&#1088;&#1077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&#1080;&#1075;&#1075;&#1080;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audio" Target="../media/click.wav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64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рансгенные продукт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5756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362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мотря на все положительные аргументы у новой технологии нашлось немало противников, считающих, что её нельзя уподоблять ни одному из предыдущих вмешательств в природное устройство живых организмов, в том числе и скрещиванию. Основная причина в том, что генно-инженерные манипуляции перемещают гены от одних видов в другие и нарушают все установленные природой границы между живыми организмами. Учёные считают: сюрпризы, которые могут преподнести изменённые гены, попав в человеческий организм, предугадать и просчитать невозможно. Вот только некоторые «сценарии» их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92360" y="404640"/>
            <a:ext cx="2592360" cy="1638360"/>
            <a:chOff x="3492360" y="404640"/>
            <a:chExt cx="2592360" cy="1638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635280" y="404640"/>
              <a:ext cx="2381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492360" y="1268280"/>
              <a:ext cx="259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лёные давно уже выступ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тив ГМ-проду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опасность влияния на микрофлору кишечника, то есть чужеродный ген может внедриться в полезные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рансгенной еды может подавлять иммунитет человека, вызвав мутации болезнетворных бак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опасность при введении генов в трансгенное растение внести ген устойчивости к антибиотикам, в результате чего все известные препараты окажутся бессильными против микробов-му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стать причиной накопления в организме токс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ероятность, что внедрение чужеродных генов в растение может вызвать аллергические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повлиять на генетический материал, и последствия их употребления проявятся у потом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171960" cy="35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mph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же отличить трансгенные продукты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кус и цвет этого не сделаешь. В 2002 г. Минздрав России ввел обязательную маркировку тех продуктов, в которых содержится более 5% ГМ-сырья. Но по данным мониторинга, проводимого Госсанэпидслужбой России, в настоящее время производители часто используют генетически модифицированное продовольственное сырье в рецептурах в количестве менее 5%. А удельный вес пищевых продуктов, содержащих ГМИ более 1%, составляет более 80%. Впрочем, даже если товар честно маркирован, несведущий человек просто не поймёт, что держит в руках трансгенный продукт. Вся информация такого рода закодирована. Кто догадается, что знач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DEX F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чает присутствие концентрата соевого бел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200"/>
                            </p:stCondLst>
                            <p:childTnLst>
                              <p:par>
                                <p:cTn id="4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думают покупател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04840" y="177948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77948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3280" y="1557360"/>
          <a:ext cx="4038840" cy="2190600"/>
        </p:xfrm>
        <a:graphic>
          <a:graphicData uri="http://schemas.openxmlformats.org/drawingml/2006/table">
            <a:tbl>
              <a:tblPr/>
              <a:tblGrid>
                <a:gridCol w="2737080"/>
                <a:gridCol w="130176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согласен употреблять трансгенные продук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    (2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    (4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 чем пробле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    (1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трудняюсь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    (13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 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     (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можно видеть, среди опрошенных преобладает негативное отношение к трансгенным продуктам. Почти половина отказываются вводить их в свой рацион (45%), тогда как готовы употреблять их только четверть ответивших (26%). Относительно велика оказалась зона неосведомленности и неопределенности: более четверти опрошенных (28%) либо затруднились с ответом, либо не считают вопрос проблем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айте "Интер-Сои" проводился опрос по актуальной сегодня теме — генетически модифицированным продуктам питания. Посетителям предлагалось ответить на вопрос о готовности употреблять трансгенные продукты в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ТРАНСГЕННЫЕ ПРОДУКТЫ: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Рог Изобилия или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ища Франкенштейна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520" y="1652760"/>
            <a:ext cx="3341880" cy="3109680"/>
            <a:chOff x="56520" y="1652760"/>
            <a:chExt cx="3341880" cy="3109680"/>
          </a:xfrm>
        </p:grpSpPr>
        <p:pic>
          <p:nvPicPr>
            <p:cNvPr id="102" name="" descr="ЧТО ТАКОЕ ТРАНСГЕННЫЕ ПРОДУКТЫ?"/>
            <p:cNvPicPr/>
            <p:nvPr/>
          </p:nvPicPr>
          <p:blipFill>
            <a:blip r:embed="rId1"/>
            <a:stretch/>
          </p:blipFill>
          <p:spPr>
            <a:xfrm rot="20019600">
              <a:off x="395280" y="2131920"/>
              <a:ext cx="26640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0166600">
              <a:off x="1173240" y="265500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ЧТО ТАКОЕ ТРАНСГЕННЫЕ ПРОДУКТЫ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343920" y="1688400"/>
            <a:ext cx="2731320" cy="3147480"/>
            <a:chOff x="6343920" y="1688400"/>
            <a:chExt cx="2731320" cy="31474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 rot="909600">
              <a:off x="6659280" y="1915920"/>
              <a:ext cx="2100240" cy="26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909600">
              <a:off x="6712200" y="2767320"/>
              <a:ext cx="194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Что же вызывает опасения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2040" y="4455720"/>
            <a:ext cx="2740320" cy="2279880"/>
            <a:chOff x="5342040" y="4455720"/>
            <a:chExt cx="2740320" cy="22798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 rot="699000">
              <a:off x="5501520" y="4681080"/>
              <a:ext cx="2421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751800">
              <a:off x="5402520" y="5840280"/>
              <a:ext cx="23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5" action="ppaction://hlinksldjump"/>
                </a:rPr>
                <a:t>Покупать или не покупать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35280" y="1844640"/>
            <a:ext cx="2625840" cy="1917720"/>
            <a:chOff x="3635280" y="1844640"/>
            <a:chExt cx="2625840" cy="191772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3635280" y="1844640"/>
              <a:ext cx="2625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08360" y="24922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рансгенные проду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пасут миллионы голодающих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79640" y="3988080"/>
            <a:ext cx="3025440" cy="2795040"/>
            <a:chOff x="1979640" y="3988080"/>
            <a:chExt cx="3025440" cy="2795040"/>
          </a:xfrm>
        </p:grpSpPr>
        <p:pic>
          <p:nvPicPr>
            <p:cNvPr id="114" name="" descr=""/>
            <p:cNvPicPr/>
            <p:nvPr/>
          </p:nvPicPr>
          <p:blipFill>
            <a:blip r:embed="rId7"/>
            <a:stretch/>
          </p:blipFill>
          <p:spPr>
            <a:xfrm rot="20309400">
              <a:off x="2268000" y="4365720"/>
              <a:ext cx="244800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0242800">
              <a:off x="2268360" y="494136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ак же отличить ГМ-продукты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6446" y="17806"/>
                </a:lnTo>
                <a:lnTo>
                  <a:pt x="6446" y="3794"/>
                </a:lnTo>
                <a:close/>
              </a:path>
              <a:path fill="darken" w="26905" h="21600">
                <a:moveTo>
                  <a:pt x="18796" y="3794"/>
                </a:moveTo>
                <a:lnTo>
                  <a:pt x="18796" y="17806"/>
                </a:lnTo>
                <a:lnTo>
                  <a:pt x="20459" y="17806"/>
                </a:lnTo>
                <a:lnTo>
                  <a:pt x="20459" y="3794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3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3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8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ая опасность ГМ-продуктов может проявиться, а может оказаться сильно преувеличенной. В любом случае каждому человеку следует подумать о возможных непредсказуемых последствиях и самому принять решение: употреблять трансгенную пищу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908000" y="2276640"/>
            <a:ext cx="5183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C%D0%95%D0%A2%D0%90%D0%9B%D0%9B%D0%98%D0%9A%D0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 ТАКОЕ ТРАНСГЕННЫЕ ПРОДУКТ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47640" y="184428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растения, в ДНК которых введен ген, не данный им природой, ген из другого организма. Он наделяет своего «хозяина» новыми свойствами: высокая урожайность, пищевая и вкусовая ценность, устойчивость к болезням, пестицидам, выносливость и др.  Встраиваются гены не только растений, но и  бактерий , вирусов, рыб, млекопитающих и даж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519280" cy="1888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6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6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D%D0%BE%D1%80%D0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160"/>
                            </p:stCondLst>
                            <p:childTnLst>
                              <p:par>
                                <p:cTn id="1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ГМ-продук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институте растениеводства г. Кельн получено первое растение с чужеродным г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итае стали выращивать генетически модифицированный та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прилавках супермаркетов США появился первый коммерческий трансген – помидор сор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Flavr Savr”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троенным геном арктической камб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то коммерческое выращивание ГМ-с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ен «золотой» рис, обогащенный карот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5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150"/>
                            </p:stCondLst>
                            <p:childTnLst>
                              <p:par>
                                <p:cTn id="1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писок компаний, которые используют Гм-компоненты в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воей продукции, подготовлен специалистами 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reenpeace.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 В него вошли изделия компаний:</a:t>
            </a:r>
            <a:br>
              <a:rPr sz="2200"/>
            </a:b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hey's Cadbury (Fruit&amp;N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 (M&amp;M, Snickers, Milky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-cola (Coca-cola, Sp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Co (Pepsi, 7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to-Lay (Lays, Chee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le (Nesqui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gley’s (Orb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oro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6108"/>
          <a:stretch/>
        </p:blipFill>
        <p:spPr>
          <a:xfrm>
            <a:off x="4716360" y="3933720"/>
            <a:ext cx="3816360" cy="23702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65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5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5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65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5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65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65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6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65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65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65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8%D0%B3%D0%B3%D0%B8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15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4650"/>
                            </p:stCondLst>
                            <p:childTnLst>
                              <p:par>
                                <p:cTn id="24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Блестящие перспективы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генные культуры дают высокие урож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выдерживать самые неблагоприятны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культуры не нуждаются в пестицидах, следовательно, являются более экологически чис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вершенные по вкусовым качествам продукты с минимальным содержанием вре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создания «съедобных» лекарств и вакц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ение продуктов всеми необходимыми  витаминами и минер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лавное преимущество ГМ-продуктов – решение продовольственной пробле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тически модифицированные зерновые культуры могут спасти миллионы жителей развивающихся стран, умирающих от голода. В последнем отчете экспертов ООН подчеркивается, что необходимо значительное увеличение финансирования генетических исследований и совместная работа ученых многих стран в этом направлении. Генные технологии позволяют повысить урожаи в два раза, а созревают новые сорта на 30-50 дней раньше. Они богаче белком и более устойчивы к вредителям. Важно и то, что они хорошо растут без удобрений и гербицидов, которые зачастую слишком дороги для фермеров в бедных странах.  По мнению авторов отчета, польза от генетически измененных продуктов значительно перевешивает опасения по поводу их возможного вреда для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3652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98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Чем опасны трансгенные продукты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6048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 что на мировом рынке всё больше появляется продуктов, полученных с использованием генетически модифицированных источников, потребители относятся к ним по крайней мере подозрительно. Почему же бьют тревогу «зелёные», что так заботит общественнос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191628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xit" presetID="49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0:36:45Z</dcterms:created>
  <dc:creator>User</dc:creator>
  <dc:description/>
  <dc:language>en-US</dc:language>
  <cp:lastModifiedBy>Анютка</cp:lastModifiedBy>
  <dcterms:modified xsi:type="dcterms:W3CDTF">2006-05-10T06:17:49Z</dcterms:modified>
  <cp:revision>10</cp:revision>
  <dc:subject/>
  <dc:title>Трансгенные продукты</dc:title>
</cp:coreProperties>
</file>